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1D2-BC6D-410D-97A6-A306F36F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531-8E35-4A8D-8DB8-D8EFB8FC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CA7-E384-4D18-8A4F-92E8D5A6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C64-8EEC-4048-8307-3917C536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EBB4-AAD0-452D-AEFB-8C11420C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18F1-173D-4880-B069-FCA2648F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22B5-9410-4914-9E3C-6E9C9D33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AB0B-0429-48E7-BFB6-DC171572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5DAB-60F5-4159-ADB0-4338A5A9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54A7-BF89-4A01-9752-9526394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C2AE-64B2-4472-A830-5652E454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317-8612-4E6B-878F-B5362902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5F06-C8C4-4D07-88A6-82994EAC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ED10-E9A0-47A9-BD32-CBA41512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93AC-AE3C-40AC-AC59-B143717C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45DF-E7CA-4F4A-9446-4643EBAD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CFAB-6260-4726-B746-7FC60DE2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04F-CD54-47A9-BF04-E3B3C75C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62E-68C7-438A-83EE-ECED1F94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5CF-1B84-4BCF-8E1C-B8FC43B4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19A-DDF9-4383-8E0E-0BF400F6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515-2CB3-4878-A166-9085A9FD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8F3-EE97-4D6C-98FB-2BECFF7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2BD-ED48-4FF5-BD9E-F52132E9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A542-542C-48A3-868B-144DF46E91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20F9-FE58-401D-92A9-233C44F649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58920" y="2565360"/>
            <a:ext cx="676764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d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4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4 + 3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4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5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8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38:40Z</dcterms:created>
  <dc:creator>TEACHER</dc:creator>
  <dc:description/>
  <dc:language>en-US</dc:language>
  <cp:lastModifiedBy>Staff</cp:lastModifiedBy>
  <dcterms:modified xsi:type="dcterms:W3CDTF">2006-05-16T09:58:38Z</dcterms:modified>
  <cp:revision>1</cp:revision>
  <dc:subject/>
  <dc:title>Slide 1</dc:title>
</cp:coreProperties>
</file>