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9A5-7E83-482A-B967-C660E7C4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9AD6-4226-4847-BA67-F616892A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C163-26FC-4882-9CF6-9D0A92F5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447-AD96-487F-BB51-EF438532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ECAE-8362-4FC4-A11C-7C7492B4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AF46-AAF3-4B7D-A4B1-CDEF145B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966E-F0F5-4601-8E8C-F26F710D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C5C5-FC5D-48D7-9054-B9F8A41A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48AE-4AFC-4F61-B27E-1533139D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6215-4435-4620-86EE-B1B4485F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B355-ECEF-45C1-910A-C8E09DD8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653-338D-4D5B-8AF4-CC0713B8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86AA-166B-4004-B027-C3B5A111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EE30-A8C9-4D50-92E0-EB0F14DA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FD91-6543-4AE5-B265-2FB57345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1661-5429-4B1E-81F8-23F5A7D6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644B-DA2E-41BF-B16B-D4180C00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764-81AC-453B-BA01-8DABF712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515-A567-48CF-9D1E-13879580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B15-0668-411D-A957-F5D8DBA7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2E23-38F6-4DAD-85DC-287FABDE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192-06B0-4E7F-87D4-B38A9F4D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E374-5E50-46B5-B88B-4645C93B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632-F344-439F-A04C-06491375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03D1-C38B-43A0-B868-E67A5425D9F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508C-C250-457D-917F-259FF8F6715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5230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king away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6 -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9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- 3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25:20Z</dcterms:created>
  <dc:creator>TEACHER</dc:creator>
  <dc:description/>
  <dc:language>en-US</dc:language>
  <cp:lastModifiedBy>TEACHER</cp:lastModifiedBy>
  <dcterms:modified xsi:type="dcterms:W3CDTF">2008-06-02T20:09:52Z</dcterms:modified>
  <cp:revision>4</cp:revision>
  <dc:subject/>
  <dc:title>Adding!</dc:title>
</cp:coreProperties>
</file>