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246-603F-4484-B130-BAFD5EC9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779-487B-4BE9-801E-C1A5472E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821-7C3D-43C8-AE84-08AE308B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A849-E0C8-4179-8EE0-415863D3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9AFE-AF1C-410D-A94E-773CF6F8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3EBC-58E6-4190-A4B8-ABDA9A77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2600-0D24-4440-A37C-20302DC2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9F3B-D66F-48A6-945C-E0A131F0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9192-6E1F-4891-B869-B00F75BF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FB36-F5D3-45C1-A951-DFCB5A18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1480-5FBE-4505-8580-F50EEE11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5F05-D3C7-4A2A-8153-9D508C02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28F7-6C06-4AA7-89C5-81F2CF08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94E4-19F3-45B3-8F21-AA91E2B4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3E74-FEAA-4BFC-ADCD-71951339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5724-6FE5-493C-86CA-42B57096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956B-0AD4-4DF3-A275-4AAA1A53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33C-9E08-4F1C-B1AE-61F1B826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6E6-CCDB-472B-9FD1-613F94E4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D28-894C-4272-97F1-FDFED2B5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890-2912-4CEC-90ED-D7E027A0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EAD-9106-4945-BDBD-F2F3DF85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706-72C5-4B2D-8A28-8D8E2C4B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8C8-C08F-44CB-9E24-292D097F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7281-B176-4614-A642-84AF790F555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520B-C418-4069-BF44-09E7934A3DC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Adding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5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2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TEACHER</cp:lastModifiedBy>
  <dcterms:modified xsi:type="dcterms:W3CDTF">2007-09-23T20:49:28Z</dcterms:modified>
  <cp:revision>3</cp:revision>
  <dc:subject/>
  <dc:title>Adding!</dc:title>
</cp:coreProperties>
</file>