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BDB-F558-4023-BFAC-68C14619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A02-2B58-4F48-94C9-1DD1FA4F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CFF-552D-48F2-BB96-EA5A3396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3E1-6BB6-48F1-A679-75594060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057C-0A7D-4D7A-9172-8BA4AD47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7184-CD60-40BD-9F49-FC8EE537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CB7-BD85-4524-8C67-4D120D3A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5F3A-C7E9-4E0F-8BBD-02DA144D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1DD1-6AA5-4B8C-8364-40D582A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4674-23CA-488E-921A-8EA8DC75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CA5F-C96D-4EF2-8F53-BFAB3BAF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DDF-A265-43D4-BFAE-C8D060F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61CE-4401-435A-98B8-FF73C85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231-4255-421F-9C91-46EBD58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F04A-47EC-4DD6-A54E-2FFA73AD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6EE7-646C-4F0F-86BC-206AB4DF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269-F541-420F-AA80-BE4CF650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C98-1753-48AD-97B9-CA8DB6D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264-2369-49B1-8CF9-7CDE014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3E2-2DD1-47DE-8D02-F011514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46D-3E51-4D97-BCB5-D1BE77AB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724-6889-4678-BDAC-96352ED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076-9FE0-48D8-ABE8-F26370F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41D-C043-47DF-817F-966B4BA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2CC-A791-4438-92AC-A1C34A2833A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482-B665-43BB-B352-8FE722C7C0D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and 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4-03T10:59:12Z</dcterms:modified>
  <cp:revision>2</cp:revision>
  <dc:subject/>
  <dc:title>Adding!</dc:title>
</cp:coreProperties>
</file>