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94A3-939C-4D3B-8D1C-85F61EE1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99DD-174C-42F5-A041-6E143157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370D-ECCC-420D-ABDB-691AB906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4BC3-6871-4EB5-A7C1-68A44CD5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F367-689A-4CA4-9857-5D11A706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3230-91D1-4B99-B1EF-8E581A9C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9B0D-8FFC-401D-B4C7-07D2E3E3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DEBD-4B6D-41C5-963D-87F00715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140C-847D-48BB-9ABA-F810914D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1D69-55ED-4E56-B686-621FDAEA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E0F9-0F6D-47CC-B3BF-AC1BC4CB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9AFA-8FE4-4386-9922-A5588ACD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BA35-0804-4459-9528-517ABB13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6E62-77C2-477C-BE92-C5E4278A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16B4-4FC9-4A56-ACD6-51E86292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256A-4384-436E-B1C2-18D26E07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35E2-A48C-43C1-8936-3C4CD1B8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F4AC-6F42-41C8-B8B5-638BA799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CA6F-3BF5-42AE-8AD7-1CEBD3FB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7DD8-9A68-4759-BBC0-F5ABA6EF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7B97-D36E-45A6-99AF-53F4BA8C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BF7D-1CA1-4F11-A099-ECFFDCED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86DE-1EF2-433C-823C-CBE1960C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F139-D62C-46E3-BB44-5CE44DD1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C010-8B81-4CAF-AB7C-5A6B4BAAEC8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41B2-38BB-4436-BF7C-CF91AFEF8DA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52308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king away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4 -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6 - 2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9 -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4 - 3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0:25:20Z</dcterms:created>
  <dc:creator>TEACHER</dc:creator>
  <dc:description/>
  <dc:language>en-US</dc:language>
  <cp:lastModifiedBy>Staff</cp:lastModifiedBy>
  <dcterms:modified xsi:type="dcterms:W3CDTF">2007-06-18T15:37:13Z</dcterms:modified>
  <cp:revision>4</cp:revision>
  <dc:subject/>
  <dc:title>Adding!</dc:title>
</cp:coreProperties>
</file>