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80A-77BA-4DA8-AD06-6D354CB0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8BB-CB98-424F-A634-8F59BBE7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518-0205-48CF-8465-26B726D3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D50-D660-412E-A104-921EDBFD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347B-4C53-4AED-8D29-3EC01660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5F60-591F-4990-9943-C5F72056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6536-C914-47A7-8190-A1A13437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43CC-3BD1-4787-9A8C-D4886F1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4442-A858-4341-A2B9-09BB4E45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E046-FE3F-4BB3-988E-92157FE0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0EB3-2FC5-4E60-BCC9-DAF8B048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40D-99C3-4899-9F1C-299DA5FC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539-8126-4410-8948-DFBB70E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1284-242A-4967-B283-47EAE9F8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3B3A-1A7F-4F92-A62A-09D83947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9C5A-F173-41CD-9BEF-96177E69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3EFE-7A2C-4AB2-B278-19CCC747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BED-2D1C-448C-847F-BA7DB434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EAF-5D5A-44A2-9ECF-3A36C160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581-7285-46A8-90BE-E69BF703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EA4-F2F0-4BB8-81F6-E4A7894F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811-8772-43E4-BD66-ACCCFC2B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119-4350-46AD-8DC4-60F70C3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CCD-F49F-4F57-8244-F5641F6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8E96-C51C-4044-AB48-8D77E3BB0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811-B5BA-4F1E-B898-18EBDBEA0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846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b7e7ff"/>
                </a:solidFill>
                <a:latin typeface="Arial"/>
              </a:rPr>
              <a:t>Taking Away!</a:t>
            </a: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7 – 1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4 – 2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5 – 2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f"/>
                </a:solidFill>
                <a:latin typeface="Arial"/>
              </a:rPr>
              <a:t>10 – 2 =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0" spc="-1" strike="noStrike">
                <a:solidFill>
                  <a:srgbClr val="ffffff"/>
                </a:solidFill>
                <a:latin typeface="Arial"/>
              </a:rPr>
              <a:t>11 – 1 =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4 – 3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9:48:19Z</dcterms:created>
  <dc:creator>TEACHER</dc:creator>
  <dc:description/>
  <dc:language>en-US</dc:language>
  <cp:lastModifiedBy>TEACHER</cp:lastModifiedBy>
  <dcterms:modified xsi:type="dcterms:W3CDTF">2006-04-11T09:57:00Z</dcterms:modified>
  <cp:revision>1</cp:revision>
  <dc:subject/>
  <dc:title>Taking Away! </dc:title>
</cp:coreProperties>
</file>