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25C-D194-455A-950A-E03CDC4E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972-4BA3-484D-AA03-1DB4F3C7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C1E-B084-4EE0-A175-B345B2F1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6F0-3469-404E-8B26-09FE3D19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0F26-9591-4F79-A63D-32E35905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809B-F280-4386-8DBC-D7C4373A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F973-E63B-445C-B5A3-6D802881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7D6C-63BC-49AE-A45F-1C8CACCE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AA23-8168-4116-88EF-82A2E3D0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4965-64F9-40E6-ABC9-2781B487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AF68-AD4D-4736-A40E-9F2EBC4C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E7F-5FA7-4984-931F-52A76A1A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346D-1C2C-44BB-84D4-3A39AABA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0F14-8F27-471E-B051-5FA71583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B395-EB8D-401B-BDAA-248457FC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4A51-E560-429A-A62F-A880D3D6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AA7F-5252-46B9-AF15-9D1232CB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32E-09C1-4E4E-B527-F7C47683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1C6-FBD7-4BDA-91B9-4831E868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044-E5C0-47C2-B1CC-D5D904D2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416-49B0-4FA1-AEFE-7507DBDC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864-98FD-4BD3-83D5-B159BF97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088-2142-4D0C-A528-351C58D3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F7F-8426-4FEA-BBAB-EF3E64E3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3220-DB94-4BAB-B156-AB389482056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8410-DF2A-4FE8-9029-3199F507E10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dding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6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+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8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+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6-03-21T10:29:01Z</dcterms:modified>
  <cp:revision>1</cp:revision>
  <dc:subject/>
  <dc:title>Adding!</dc:title>
</cp:coreProperties>
</file>