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AA25-7FAF-40D9-ACF1-B5298DA5C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A167-E0F9-4FDF-B013-742F29DCF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AB1E-E1B7-4EF4-9EEC-FD57A7EDB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36BA-9854-4110-9086-D87B42AE5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8EDC-9422-4CDF-9C7D-96641CF0B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BE71-E296-4292-812D-8D818B319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2109-40FE-4762-A56A-7E532D0B5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EFDF-E218-4BB0-BA7D-1E2764CDA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2D4E-43D2-4AA4-B72C-7B5EB7691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E2A9-7751-4898-8C87-E5CF99DC8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0618-7E30-44D8-A840-6EC168D24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E2FE-5637-4A9C-929F-7AB47EC1E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1745D-920B-44B7-8F49-649B59AC72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475920"/>
            <a:ext cx="78469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Adding </a:t>
            </a:r>
            <a:br>
              <a:rPr sz="9600"/>
            </a:b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and </a:t>
            </a:r>
            <a:br>
              <a:rPr sz="9600"/>
            </a:b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Taking Away!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0" spc="-1" strike="noStrike">
                <a:solidFill>
                  <a:srgbClr val="000000"/>
                </a:solidFill>
                <a:latin typeface="Arial"/>
              </a:rPr>
              <a:t>7 – 1 = 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0" spc="-1" strike="noStrike">
                <a:solidFill>
                  <a:srgbClr val="000000"/>
                </a:solidFill>
                <a:latin typeface="Arial"/>
              </a:rPr>
              <a:t>4 + 2 = 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0" spc="-1" strike="noStrike">
                <a:solidFill>
                  <a:srgbClr val="000000"/>
                </a:solidFill>
                <a:latin typeface="Arial"/>
              </a:rPr>
              <a:t>5 – 2 = 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0" spc="-1" strike="noStrike">
                <a:solidFill>
                  <a:srgbClr val="000000"/>
                </a:solidFill>
                <a:latin typeface="Arial"/>
              </a:rPr>
              <a:t>2 + 2=</a:t>
            </a:r>
            <a:r>
              <a:rPr b="0" lang="en-GB" sz="20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0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0" spc="-1" strike="noStrike">
                <a:solidFill>
                  <a:srgbClr val="000000"/>
                </a:solidFill>
                <a:latin typeface="Arial"/>
              </a:rPr>
              <a:t>6 – 1 =</a:t>
            </a:r>
            <a:r>
              <a:rPr b="0" lang="en-GB" sz="20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1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0" spc="-1" strike="noStrike">
                <a:solidFill>
                  <a:srgbClr val="000000"/>
                </a:solidFill>
                <a:latin typeface="Arial"/>
              </a:rPr>
              <a:t>4 – 2 = 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2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0T10:10:57Z</dcterms:created>
  <dc:creator>TEACHER</dc:creator>
  <dc:description/>
  <dc:language>en-US</dc:language>
  <cp:lastModifiedBy>TEACHER</cp:lastModifiedBy>
  <dcterms:modified xsi:type="dcterms:W3CDTF">2006-06-20T10:11:06Z</dcterms:modified>
  <cp:revision>1</cp:revision>
  <dc:subject/>
  <dc:title>Adding  and  Taking Away! </dc:title>
</cp:coreProperties>
</file>